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C7AE8-3991-424F-B2DF-FB408EB29F1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075B8-E5F1-4DDD-9666-43C9B5511E6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57400" y="70164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B914-AA3A-4E74-927E-B65A5D0CD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777240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3520" y="3820680"/>
            <a:ext cx="777240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3520-BA70-43BC-8143-258EF7FE3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379260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16200" y="1676160"/>
            <a:ext cx="379260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3520" y="3820680"/>
            <a:ext cx="379260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16200" y="3820680"/>
            <a:ext cx="379260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A00B-F978-47FC-9C06-EA4A7D9B1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250236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1520" y="1676160"/>
            <a:ext cx="250236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789160" y="1676160"/>
            <a:ext cx="250236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33520" y="3820680"/>
            <a:ext cx="250236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1520" y="3820680"/>
            <a:ext cx="250236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789160" y="3820680"/>
            <a:ext cx="250236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7D20-A843-4F12-B18F-95334CEE1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33520" y="1676160"/>
            <a:ext cx="777240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60F3-D4AC-4A83-99E2-7C443C6D2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7772400" cy="410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48E3-7ED9-4925-A3A1-B795B33C3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3792600" cy="410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16200" y="1676160"/>
            <a:ext cx="3792600" cy="410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B168-48CB-4FB0-9083-D506426AC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FA8E-A6D9-4BCB-8A52-395FA2F6B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6324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849B-3DD9-4DDD-BBD6-0D4F22497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379260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16200" y="1676160"/>
            <a:ext cx="3792600" cy="410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520" y="3820680"/>
            <a:ext cx="379260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65D7-2E20-45BF-A75F-857EA445F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3792600" cy="410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16200" y="1676160"/>
            <a:ext cx="379260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16200" y="3820680"/>
            <a:ext cx="379260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9D6F-3C20-4712-9738-DE9C255F6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379260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16200" y="1676160"/>
            <a:ext cx="379260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520" y="3820680"/>
            <a:ext cx="777240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D586-3945-437A-BF4C-10D0FA8C1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31400" cy="6845400"/>
            <a:chOff x="0" y="0"/>
            <a:chExt cx="9131400" cy="68454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31400" cy="6845400"/>
              <a:chOff x="0" y="0"/>
              <a:chExt cx="9131400" cy="68454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31400" cy="6845400"/>
              </a:xfrm>
              <a:prstGeom prst="rect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0"/>
                <a:ext cx="8610480" cy="632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" name=""/>
            <p:cNvSpPr/>
            <p:nvPr/>
          </p:nvSpPr>
          <p:spPr>
            <a:xfrm>
              <a:off x="457200" y="1295280"/>
              <a:ext cx="8669160" cy="88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3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554D161-5FA9-4EC6-BD00-DF08D2CACB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457200" y="-3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533520" y="1676160"/>
            <a:ext cx="7772400" cy="410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64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64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64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64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uva-logo" descr=""/>
          <p:cNvPicPr/>
          <p:nvPr/>
        </p:nvPicPr>
        <p:blipFill>
          <a:blip r:embed="rId3"/>
          <a:stretch/>
        </p:blipFill>
        <p:spPr>
          <a:xfrm flipH="1" rot="10800000">
            <a:off x="6858000" y="380520"/>
            <a:ext cx="163044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8.xml"/><Relationship Id="rId3" Type="http://schemas.openxmlformats.org/officeDocument/2006/relationships/slide" Target="slide16.xml"/><Relationship Id="rId4" Type="http://schemas.openxmlformats.org/officeDocument/2006/relationships/slide" Target="slide20.xml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5.xm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quirements for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tology Specific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us Schrei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, University of Amsterd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itional expressivity (2 of 2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/subclass seman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itive vs. defined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te/partial, disjoint/overlapping sub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of basic data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/export of an ont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tology 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naming ontological 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forming ontological 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ppy class/instance disti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-level attributes/re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quirements for Ontology Specific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965E-BA9A-492B-8E3C-BE190AB8E6F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agstuhl semin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ority list for expressiv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7772400" cy="410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go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ductive capability: “limit to first-order logic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imal content: “as much as (pragmatically) possibl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 priority list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a “maximal-content” representa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sub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ified re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/export mech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oppy class/instance disti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econd-order) constraint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gre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quirements for Ontology Specific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0186-D9A0-43D1-B8D2-62EFA577E0E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agstuhl semin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DF / RDF Schema and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tology specific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7772400" cy="410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ailable constr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sub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oppy class-instance disti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 set of data types (from XML Schem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 mecha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bi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ified re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a statement be a resource? At best it is awkw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gregation (“bag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aint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ping formal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quirements for Ontology Specific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172C-0810-40B2-B622-56C86587735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agstuhl semin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ing RDF / RDF Schem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7772400" cy="410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do not want to read or write R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 need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phical representation (partial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ML-type?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ipulation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Protege-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incing examples and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s and guide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quirements for Ontology Specific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158D-6AD2-4D5D-8C02-9F114410A10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agstuhl semin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rt &amp; Architecture Thesauru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grasp" descr=""/>
          <p:cNvPicPr/>
          <p:nvPr/>
        </p:nvPicPr>
        <p:blipFill>
          <a:blip r:embed="rId1"/>
          <a:stretch/>
        </p:blipFill>
        <p:spPr>
          <a:xfrm>
            <a:off x="2133720" y="1523880"/>
            <a:ext cx="6248160" cy="44690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80160" y="2362320"/>
            <a:ext cx="143388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x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len ar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s 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rop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bas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quirements for Ontology Specific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8B52-D0C9-410F-A9AE-3847E4780ED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agstuhl semin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AAT ontolog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87440" y="1523880"/>
            <a:ext cx="1049400" cy="5241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05240" y="1617840"/>
            <a:ext cx="930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"/>
              </a:rPr>
              <a:t>descrip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566080" y="1785960"/>
            <a:ext cx="712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"/>
              </a:rPr>
              <a:t>univers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87440" y="2562120"/>
            <a:ext cx="1049400" cy="5256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05240" y="2657520"/>
            <a:ext cx="930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"/>
              </a:rPr>
              <a:t>descrip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21800" y="2824200"/>
            <a:ext cx="864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"/>
              </a:rPr>
              <a:t>dimens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87440" y="3684600"/>
            <a:ext cx="1049400" cy="5256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41240" y="3863880"/>
            <a:ext cx="846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"/>
              </a:rPr>
              <a:t>descripto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3276720"/>
            <a:ext cx="1049400" cy="5238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77680" y="3454560"/>
            <a:ext cx="743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"/>
              </a:rPr>
              <a:t>value se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7440" y="5614920"/>
            <a:ext cx="1049400" cy="5238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666880" y="5792760"/>
            <a:ext cx="448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"/>
              </a:rPr>
              <a:t>valu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36840" y="4713120"/>
            <a:ext cx="1049400" cy="5241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90640" y="4807080"/>
            <a:ext cx="846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"/>
              </a:rPr>
              <a:t>descripto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714840" y="4975200"/>
            <a:ext cx="448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"/>
              </a:rPr>
              <a:t>valu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189840" y="1523880"/>
            <a:ext cx="1049040" cy="5241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73960" y="1701720"/>
            <a:ext cx="511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"/>
              </a:rPr>
              <a:t>objec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40280" y="2992320"/>
            <a:ext cx="1047600" cy="5256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6720" y="3170160"/>
            <a:ext cx="919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"/>
              </a:rPr>
              <a:t>object typ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89840" y="2992320"/>
            <a:ext cx="1049040" cy="5256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384240" y="3170160"/>
            <a:ext cx="953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"/>
              </a:rPr>
              <a:t>object cla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53040" y="5762520"/>
            <a:ext cx="1049400" cy="52416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446880" y="5856120"/>
            <a:ext cx="399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"/>
              </a:rPr>
              <a:t>cla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302880" y="6024600"/>
            <a:ext cx="854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"/>
              </a:rPr>
              <a:t>constrai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13040" y="2048040"/>
            <a:ext cx="1440" cy="514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749680" y="2048040"/>
            <a:ext cx="125280" cy="252360"/>
          </a:xfrm>
          <a:custGeom>
            <a:avLst/>
            <a:gdLst/>
            <a:ahLst/>
            <a:rect l="l" t="t" r="r" b="b"/>
            <a:pathLst>
              <a:path w="79" h="159">
                <a:moveTo>
                  <a:pt x="40" y="0"/>
                </a:moveTo>
                <a:lnTo>
                  <a:pt x="79" y="80"/>
                </a:lnTo>
                <a:lnTo>
                  <a:pt x="40" y="159"/>
                </a:lnTo>
                <a:lnTo>
                  <a:pt x="0" y="80"/>
                </a:lnTo>
                <a:lnTo>
                  <a:pt x="40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2813040" y="3087720"/>
            <a:ext cx="1440" cy="596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781360" y="3087720"/>
            <a:ext cx="61920" cy="104760"/>
          </a:xfrm>
          <a:custGeom>
            <a:avLst/>
            <a:gdLst/>
            <a:ahLst/>
            <a:rect l="l" t="t" r="r" b="b"/>
            <a:pathLst>
              <a:path w="39" h="66">
                <a:moveTo>
                  <a:pt x="39" y="66"/>
                </a:moveTo>
                <a:lnTo>
                  <a:pt x="20" y="0"/>
                </a:lnTo>
                <a:lnTo>
                  <a:pt x="0" y="66"/>
                </a:lnTo>
                <a:lnTo>
                  <a:pt x="39" y="6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58880" y="3736800"/>
            <a:ext cx="6285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813040" y="4210200"/>
            <a:ext cx="1440" cy="1404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2812680" y="4975200"/>
            <a:ext cx="523800" cy="1440"/>
          </a:xfrm>
          <a:prstGeom prst="line">
            <a:avLst/>
          </a:prstGeom>
          <a:ln w="11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36840" y="3463920"/>
            <a:ext cx="703440" cy="272880"/>
          </a:xfrm>
          <a:custGeom>
            <a:avLst/>
            <a:gdLst/>
            <a:ahLst/>
            <a:rect l="l" t="t" r="r" b="b"/>
            <a:pathLst>
              <a:path w="443" h="172">
                <a:moveTo>
                  <a:pt x="0" y="172"/>
                </a:moveTo>
                <a:lnTo>
                  <a:pt x="218" y="172"/>
                </a:lnTo>
                <a:lnTo>
                  <a:pt x="218" y="0"/>
                </a:lnTo>
                <a:lnTo>
                  <a:pt x="44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336840" y="3705120"/>
            <a:ext cx="104760" cy="63720"/>
          </a:xfrm>
          <a:custGeom>
            <a:avLst/>
            <a:gdLst/>
            <a:ahLst/>
            <a:rect l="l" t="t" r="r" b="b"/>
            <a:pathLst>
              <a:path w="66" h="40">
                <a:moveTo>
                  <a:pt x="66" y="0"/>
                </a:moveTo>
                <a:lnTo>
                  <a:pt x="0" y="20"/>
                </a:lnTo>
                <a:lnTo>
                  <a:pt x="66" y="40"/>
                </a:lnTo>
                <a:lnTo>
                  <a:pt x="66" y="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87880" y="3254400"/>
            <a:ext cx="1101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087880" y="3222720"/>
            <a:ext cx="106560" cy="63360"/>
          </a:xfrm>
          <a:custGeom>
            <a:avLst/>
            <a:gdLst/>
            <a:ahLst/>
            <a:rect l="l" t="t" r="r" b="b"/>
            <a:pathLst>
              <a:path w="67" h="40">
                <a:moveTo>
                  <a:pt x="67" y="0"/>
                </a:moveTo>
                <a:lnTo>
                  <a:pt x="0" y="20"/>
                </a:lnTo>
                <a:lnTo>
                  <a:pt x="67" y="40"/>
                </a:lnTo>
                <a:lnTo>
                  <a:pt x="67" y="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64080" y="1785960"/>
            <a:ext cx="1625760" cy="1206360"/>
          </a:xfrm>
          <a:custGeom>
            <a:avLst/>
            <a:gdLst/>
            <a:ahLst/>
            <a:rect l="l" t="t" r="r" b="b"/>
            <a:pathLst>
              <a:path w="1024" h="760">
                <a:moveTo>
                  <a:pt x="0" y="760"/>
                </a:moveTo>
                <a:lnTo>
                  <a:pt x="0" y="0"/>
                </a:lnTo>
                <a:lnTo>
                  <a:pt x="102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32400" y="2887560"/>
            <a:ext cx="63360" cy="104760"/>
          </a:xfrm>
          <a:custGeom>
            <a:avLst/>
            <a:gdLst/>
            <a:ahLst/>
            <a:rect l="l" t="t" r="r" b="b"/>
            <a:pathLst>
              <a:path w="40" h="66">
                <a:moveTo>
                  <a:pt x="0" y="0"/>
                </a:moveTo>
                <a:lnTo>
                  <a:pt x="20" y="66"/>
                </a:lnTo>
                <a:lnTo>
                  <a:pt x="40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310080" y="5068800"/>
            <a:ext cx="883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"/>
              </a:rPr>
              <a:t>has featu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578640" y="3517920"/>
            <a:ext cx="1440" cy="155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546960" y="4964040"/>
            <a:ext cx="63360" cy="104760"/>
          </a:xfrm>
          <a:custGeom>
            <a:avLst/>
            <a:gdLst/>
            <a:ahLst/>
            <a:rect l="l" t="t" r="r" b="b"/>
            <a:pathLst>
              <a:path w="40" h="66">
                <a:moveTo>
                  <a:pt x="0" y="0"/>
                </a:moveTo>
                <a:lnTo>
                  <a:pt x="20" y="66"/>
                </a:lnTo>
                <a:lnTo>
                  <a:pt x="40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4385880" y="5153040"/>
            <a:ext cx="1846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86240" y="5122800"/>
            <a:ext cx="104760" cy="61920"/>
          </a:xfrm>
          <a:custGeom>
            <a:avLst/>
            <a:gdLst/>
            <a:ahLst/>
            <a:rect l="l" t="t" r="r" b="b"/>
            <a:pathLst>
              <a:path w="66" h="39">
                <a:moveTo>
                  <a:pt x="66" y="0"/>
                </a:moveTo>
                <a:lnTo>
                  <a:pt x="0" y="19"/>
                </a:lnTo>
                <a:lnTo>
                  <a:pt x="66" y="39"/>
                </a:lnTo>
                <a:lnTo>
                  <a:pt x="66" y="0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6578640" y="5236920"/>
            <a:ext cx="1440" cy="525240"/>
          </a:xfrm>
          <a:prstGeom prst="line">
            <a:avLst/>
          </a:prstGeom>
          <a:ln w="11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371240" y="3886200"/>
            <a:ext cx="791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"/>
              </a:rPr>
              <a:t>descripto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219320" y="4114800"/>
            <a:ext cx="1022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"/>
              </a:rPr>
              <a:t>value se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424240" y="3276720"/>
            <a:ext cx="787320" cy="1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499480" y="3276720"/>
            <a:ext cx="1003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"/>
              </a:rPr>
              <a:t>in dimens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773960" y="1881360"/>
            <a:ext cx="849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"/>
              </a:rPr>
              <a:t>instance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453280" y="2992320"/>
            <a:ext cx="572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"/>
              </a:rPr>
              <a:t>class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08080" y="378000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"/>
              </a:rPr>
              <a:t>h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622680" y="3946680"/>
            <a:ext cx="791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"/>
              </a:rPr>
              <a:t>descripto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17040" y="3349800"/>
            <a:ext cx="18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"/>
              </a:rPr>
              <a:t>1+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964480" y="1881360"/>
            <a:ext cx="18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"/>
              </a:rPr>
              <a:t>1+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975400" y="3475080"/>
            <a:ext cx="18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"/>
              </a:rPr>
              <a:t>1+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975400" y="2394000"/>
            <a:ext cx="18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"/>
              </a:rPr>
              <a:t>1+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394440" y="3768840"/>
            <a:ext cx="18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"/>
              </a:rPr>
              <a:t>1+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27720" y="4881600"/>
            <a:ext cx="18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"/>
              </a:rPr>
              <a:t>1+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quirements for Ontology Specific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CBA7-7030-45FF-8F19-3272B13D269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agstuhl semin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cument fragment ontologies: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struction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914400" y="1523880"/>
          <a:ext cx="3735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523880"/>
                    <a:ext cx="3735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4648320" y="1828800"/>
          <a:ext cx="3781440" cy="3822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828800"/>
                    <a:ext cx="3781440" cy="38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quirements for Ontology Specific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1397-987D-4694-BB7F-21C6CA705E8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agstuhl semin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main ontology of a traffic light control syste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2621160" cy="3481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6" name=""/>
          <p:cNvGraphicFramePr/>
          <p:nvPr/>
        </p:nvGraphicFramePr>
        <p:xfrm>
          <a:off x="3809880" y="1600200"/>
          <a:ext cx="4581720" cy="4686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9880" y="1600200"/>
                    <a:ext cx="4581720" cy="468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quirements for Ontology Specific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A197-403E-4D76-A0A2-105F3120E8C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agstuhl semin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wo ontologies of document frag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267080" y="2362320"/>
          <a:ext cx="4343400" cy="340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2362320"/>
                    <a:ext cx="4343400" cy="34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57200" y="2362320"/>
          <a:ext cx="3581280" cy="192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2362320"/>
                    <a:ext cx="3581280" cy="192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quirements for Ontology Specific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9115-6132-4A86-ACFC-F284869FD34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agstuhl semin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7315200" cy="48528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tology for e-commer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quirements for Ontology Specific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1FE6-0BF3-4920-BD08-5DC1F8A2AEF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agstuhl semin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view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7772400" cy="410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t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tology 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d levels of express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tologies and web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spe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quirements for Ontology Specific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69B3-5E95-426F-BC8B-3E896EC33A5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agstuhl semin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-level categories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y different proposa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laatje" descr=""/>
          <p:cNvPicPr/>
          <p:nvPr/>
        </p:nvPicPr>
        <p:blipFill>
          <a:blip r:embed="rId1"/>
          <a:stretch/>
        </p:blipFill>
        <p:spPr>
          <a:xfrm>
            <a:off x="0" y="1447920"/>
            <a:ext cx="8381880" cy="39304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683280" y="5715000"/>
            <a:ext cx="37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drasekaran et al. (199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quirements for Ontology Specific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9578-7578-4DA0-BCBE-417D6297FEB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agstuhl semin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notion of ontolog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7772400" cy="410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tology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licit specification of a shared conceptualization that holds in a particular context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veral autho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ures a viewpoint an a domai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xonomies of spe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, functional, &amp; behavioral system descri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k perspective: instruction, pla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quirements for Ontology Specific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189F-A27C-4C59-AE87-633EE2EBFBB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agstuhl semin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tology should allow for “representational promiscuity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1600200"/>
            <a:ext cx="2369880" cy="1131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474560" y="1679400"/>
            <a:ext cx="965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"/>
              </a:rPr>
              <a:t>ontolog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24680" y="2158920"/>
            <a:ext cx="1081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"/>
              </a:rPr>
              <a:t>paramet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23960" y="2371680"/>
            <a:ext cx="22669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"/>
              </a:rPr>
              <a:t>constraint -express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60520" y="3728880"/>
            <a:ext cx="2328840" cy="1836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17560" y="2732040"/>
            <a:ext cx="1800" cy="9968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7960" y="3597120"/>
            <a:ext cx="81000" cy="131760"/>
          </a:xfrm>
          <a:custGeom>
            <a:avLst/>
            <a:gdLst/>
            <a:ahLst/>
            <a:rect l="l" t="t" r="r" b="b"/>
            <a:pathLst>
              <a:path w="51" h="83">
                <a:moveTo>
                  <a:pt x="0" y="0"/>
                </a:moveTo>
                <a:lnTo>
                  <a:pt x="25" y="83"/>
                </a:lnTo>
                <a:lnTo>
                  <a:pt x="51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10880" y="3916440"/>
            <a:ext cx="1959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"/>
              </a:rPr>
              <a:t>knowledge base 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71160" y="4419720"/>
            <a:ext cx="2707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"/>
              </a:rPr>
              <a:t>cab.weight + safety.weigh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3840" y="4648320"/>
            <a:ext cx="1531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"/>
              </a:rPr>
              <a:t>= car.weigh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98240" y="5105520"/>
            <a:ext cx="183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"/>
              </a:rPr>
              <a:t>cab.weight &lt; 500: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767120" y="3689280"/>
            <a:ext cx="3767400" cy="22766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903400" y="2158920"/>
            <a:ext cx="959040" cy="2489400"/>
          </a:xfrm>
          <a:custGeom>
            <a:avLst/>
            <a:gdLst/>
            <a:ahLst/>
            <a:rect l="l" t="t" r="r" b="b"/>
            <a:pathLst>
              <a:path w="604" h="1568">
                <a:moveTo>
                  <a:pt x="0" y="0"/>
                </a:moveTo>
                <a:lnTo>
                  <a:pt x="604" y="0"/>
                </a:lnTo>
                <a:lnTo>
                  <a:pt x="604" y="1568"/>
                </a:lnTo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21040" y="4514760"/>
            <a:ext cx="81000" cy="133560"/>
          </a:xfrm>
          <a:custGeom>
            <a:avLst/>
            <a:gdLst/>
            <a:ahLst/>
            <a:rect l="l" t="t" r="r" b="b"/>
            <a:pathLst>
              <a:path w="51" h="84">
                <a:moveTo>
                  <a:pt x="0" y="0"/>
                </a:moveTo>
                <a:lnTo>
                  <a:pt x="26" y="84"/>
                </a:lnTo>
                <a:lnTo>
                  <a:pt x="51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89360" y="4648320"/>
            <a:ext cx="1877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633920" y="4608360"/>
            <a:ext cx="133200" cy="79560"/>
          </a:xfrm>
          <a:custGeom>
            <a:avLst/>
            <a:gdLst/>
            <a:ahLst/>
            <a:rect l="l" t="t" r="r" b="b"/>
            <a:pathLst>
              <a:path w="84" h="50">
                <a:moveTo>
                  <a:pt x="0" y="50"/>
                </a:moveTo>
                <a:lnTo>
                  <a:pt x="84" y="25"/>
                </a:lnTo>
                <a:lnTo>
                  <a:pt x="0" y="0"/>
                </a:lnTo>
                <a:lnTo>
                  <a:pt x="0" y="5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33240" y="3795840"/>
            <a:ext cx="1954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"/>
              </a:rPr>
              <a:t>knowledge base B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957200" y="4156200"/>
            <a:ext cx="2321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"/>
              </a:rPr>
              <a:t>parameter(cab.weight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950720" y="4368960"/>
            <a:ext cx="25732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"/>
              </a:rPr>
              <a:t>parameter(safety.weight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57920" y="4581360"/>
            <a:ext cx="2279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"/>
              </a:rPr>
              <a:t>parameter(car.weight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980240" y="4794120"/>
            <a:ext cx="22759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"/>
              </a:rPr>
              <a:t>constraint-expression(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925520" y="5006880"/>
            <a:ext cx="3384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"/>
              </a:rPr>
              <a:t>           </a:t>
            </a:r>
            <a:r>
              <a:rPr b="0" lang="en-US" sz="1700" spc="-1" strike="noStrike">
                <a:solidFill>
                  <a:srgbClr val="000000"/>
                </a:solidFill>
                <a:latin typeface=""/>
              </a:rPr>
              <a:t>cab.weight + safety.weight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971240" y="5219640"/>
            <a:ext cx="1933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"/>
              </a:rPr>
              <a:t>           </a:t>
            </a:r>
            <a:r>
              <a:rPr b="0" lang="en-US" sz="1700" spc="-1" strike="noStrike">
                <a:solidFill>
                  <a:srgbClr val="000000"/>
                </a:solidFill>
                <a:latin typeface=""/>
              </a:rPr>
              <a:t>= car.weight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980240" y="5433840"/>
            <a:ext cx="22759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"/>
              </a:rPr>
              <a:t>constraint-expression(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964760" y="5646600"/>
            <a:ext cx="2346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"/>
              </a:rPr>
              <a:t>          </a:t>
            </a:r>
            <a:r>
              <a:rPr b="0" lang="en-US" sz="1700" spc="-1" strike="noStrike">
                <a:solidFill>
                  <a:srgbClr val="000000"/>
                </a:solidFill>
                <a:latin typeface=""/>
              </a:rPr>
              <a:t>cab.weight &lt; 500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68520" y="4635360"/>
            <a:ext cx="86544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401640" y="4635360"/>
            <a:ext cx="1145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"/>
              </a:rPr>
              <a:t>rewritten a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17400" y="3090960"/>
            <a:ext cx="922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"/>
              </a:rPr>
              <a:t>viewpoin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88600" y="2824200"/>
            <a:ext cx="1395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"/>
              </a:rPr>
              <a:t>mapping rul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quirements for Ontology Specific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1689-8CD8-4DF0-8D73-A733883AC06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agstuhl semin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6324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tology typ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main-orie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ain-specif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dicine  =&gt; cardiology =&gt; rhythm disor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hlinkClick r:id="rId1" action="ppaction://hlinksldjump"/>
              </a:rPr>
              <a:t>traffic light control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ain generaliz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onents, organs,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hlinkClick r:id="rId2" action="ppaction://hlinksldjump"/>
              </a:rPr>
              <a:t>docu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k-orie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sk-speci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 design,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hlinkClick r:id="rId3" action="ppaction://hlinksldjump"/>
              </a:rPr>
              <a:t>instru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pla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sk generaliz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blems solving, e.g. UP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ic ontolo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hlinkClick r:id="rId4" action="ppaction://hlinksldjump"/>
              </a:rPr>
              <a:t>“Top-level categorie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ts and dimen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quirements for Ontology Specific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63B3-423E-44AD-882E-A6016F95017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agstuhl semin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ing ontolog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7772400" cy="410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tologies needed for an application are typically a mix of several ontology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ice terminology: traffic ligh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ument structure and syn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al categ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1" action="ppaction://hlinksldjump"/>
              </a:rPr>
              <a:t>E-comme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ises nee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/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quirements for Ontology Specific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D8BD-9C8F-46A0-86C1-D7BC1418B72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agstuhl semin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main standards and vocabularies as ontolog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7772400" cy="410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1" action="ppaction://hlinksldjump"/>
              </a:rPr>
              <a:t>Art and Architecture Thesaurus (A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ain ontological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AT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2" action="ppaction://hlinksldjump"/>
              </a:rPr>
              <a:t>structure of the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tology needs to be “extracted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made available as an ont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help of some mapping formal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s of domain terms are sometimes also called “ontologie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ies a weaker notion of ont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ope typically much broader than a specific application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domain  glossaries, Word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in some meta information: hyponyms, synonyms,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quirements for Ontology Specific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394B-1D37-417B-BFF4-4ACA323E2FC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agstuhl semin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tology specific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7772400" cy="410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different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tolingu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(concep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class with inheri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 (sl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quirements for Ontology Specific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1DBA-F687-4662-A591-4137F04602B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agstuhl semin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itional expressivity (1 of 2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7772400" cy="410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sub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gre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t-in part-whole re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-attribute disti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ribute” is a relation/slot that points to a data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ing relations as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 re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ified relations (e.g., UML “association class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aint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-order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-order stat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quirements for Ontology Specific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6AEF-1D02-4628-9C17-1FB723F4E9B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agstuhl semin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6T22:02:02Z</dcterms:created>
  <dc:creator>Guus Schreiber</dc:creator>
  <dc:description/>
  <dc:language>en-US</dc:language>
  <cp:lastModifiedBy>Stanford Database Group</cp:lastModifiedBy>
  <dcterms:modified xsi:type="dcterms:W3CDTF">2000-03-20T15:38:45Z</dcterms:modified>
  <cp:revision>20</cp:revision>
  <dc:subject/>
  <dc:title>Requirements for  ontology specification</dc:title>
</cp:coreProperties>
</file>